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BED2-55ED-4811-8F83-39FADDA5D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2FCF-FEDC-42CC-B67F-DCA5AE4008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68B-4164-4519-BA82-BFB296A4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453-AB56-4186-B890-8E90C6F2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C20E5-91E8-4669-9761-7CEB2C30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AF70E-B15F-4B74-BC71-E5DEC36D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E5E21-FE45-460F-98C8-42E793FA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27D5C-B45A-44C0-9604-9988AEF1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BADAE-3F3D-4A99-99E6-7551B218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244B3-7247-43D5-8214-DA232C08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343F4-3359-4436-A428-EA515625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5E793-B83F-4E13-AF6D-7F965CD4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1D9FE-41C5-4F78-A3E9-75CF8D9D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4A521-2856-4C22-B534-59B54BEE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7A8-9CA0-4E73-B2F1-3ACAD6AF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9E371-1667-489F-AC24-3B7B9624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8C808-9AED-43CE-BCD0-91ED58A5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EA340-5908-4F8D-9DFD-35A92D10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4EF5C-BCCF-485F-9590-CA4483F2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C09C6-48D3-468A-8368-191BB8E9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FF52B-1E6F-4FB4-9EDB-B745AF21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F101C-44CF-4513-8EBE-9AAB0AF8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B33B4-99FE-473D-BA0F-40151914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D1043-043E-48A2-9E49-232291C2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0A38D-E11D-4A9C-9FCA-0A98E213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7EE-4374-4EBE-A41E-E1D5B073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92722-E754-4AD4-B5DB-0CBA765F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DA48-B55E-4F11-BFFE-6CEC998A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E798-2D54-4D58-9EF4-B1CC97E5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AE14-8CDD-4208-8D5E-CBF686AD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1B01-9145-4FE5-8A10-EAC2CA69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52B0-21C6-43B0-B433-752AFB84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6173-6EFE-4DB3-A2E9-7F741E2B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54B6-9A4A-4667-A19F-955C987D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72B-D7AE-42B5-972B-B8EFB80E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B372-DEF2-4114-8035-A7A446CD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D26D-1115-42E5-BFFB-AE7554C7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F4A1-1AFE-41C3-B088-C4125E00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0A30-CC73-483B-B239-0FF5280D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BD3D-5813-47FA-9129-7A7B8F63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7292-6E51-4BFC-830F-09E29233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9A7F-3FD2-488F-A273-B1C9E172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5C830-CA1B-4602-A9DB-FC0BFAD1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DA7F-F14D-4619-89C5-12B5E3AE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4F85-5734-42C0-B0ED-FDFBE8EB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8BC-584D-4523-B2CA-89D4446F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3A04C-EE69-4FD6-8C3A-F2CEF1B4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91F3F-9C49-4A31-80D1-BDAED65F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159C-B9A6-4CDA-B37F-CFEC9372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0042-A980-4DAA-98BE-AF9B40A2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AF33F-0196-406D-A32F-FD1BE058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B4714-4D2A-4EFC-BA82-C88C0726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DE3D-E550-4EBE-B69E-0A48780E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AE5C7-75E7-46D2-A755-80942687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F10A-4624-4DEE-A7AF-B62EAFF5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296B-5BB3-49AE-AC03-CCBBDBE3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72D-1B3C-4BAC-A957-441257CA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2B6BF-9197-4DC3-9FAE-37F89951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6806F-B1A9-421E-A5E1-05EF6F4A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E3C2C-EF12-4419-9A64-7CC3C139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00411-5DDA-473E-859C-A7D72B23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E2D3-0A0C-44CD-BA58-21AA7054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DF436-5D4B-4987-9B00-B31B5241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634B-9EAE-4305-8491-2319C817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EC62-1599-49D1-9FA2-C128C49D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20511-8749-4D89-8102-FEB76E60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7F1B8-7A85-49BC-8052-690EEBE3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078-91FB-4E81-A6AB-80D1F2B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2F8E1-C361-4B5D-9625-3DBC3AAD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C948-7CFF-47C2-B027-6E38A015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8C249-4379-4C07-87EB-83872DD2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55360-7FF0-440C-898F-3D75F99E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F3BA-8FC4-4FCE-8116-6C0897AC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B0CC0-F921-4A4E-8F8B-AD6E93FA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F6AE9-773A-451E-B65F-916E6532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F3673-8D44-42EE-8E05-7DFEB942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0F9A0-456E-41EC-B23E-CE847A11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68FFB-E627-4DB2-B31D-FACDC4C0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EBC-A84B-4C44-9761-AD537E06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DCEA4-57E6-492F-B066-4C2A0DED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3B0CF-22DA-4944-B245-14EF94EA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6B8ED-FA65-414D-A148-DF0974F1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B3B50-3045-449C-9A9B-F8EB9951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02C21-AAF0-4F40-8342-36D667DD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FBFB4-4CBE-4DC0-85C9-EBE99D86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58FC8-B64F-4779-A252-45D5A3EF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034B7-ABCB-4816-8CD3-BEF00DE4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28A22-61E4-40C4-B436-B62E9E67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80304-CAD7-4E18-806B-77BF17F1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047-ABE2-4973-8EF8-DA237485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5C9E1-98B7-4FAE-8895-D8452B05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7DB2F-3D12-4368-9B0B-73BD54A1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473C7-65CD-436F-8E76-B606BDFF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E2333-0AC6-4AD3-A9A6-2A129127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6F591-1C4B-4383-BFA9-C90ADBBF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E2795-F1C4-49B7-890C-D7BA5508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2B4A9-BFD8-4C14-B38E-C62CA404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42BAC-A6DB-482C-86DF-18D1F7FE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5C50-EABA-4E11-912B-6E026967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E976-1032-4069-B156-65B9DC4D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A0D-82C4-4AD9-8852-A78F7841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1671F-F34D-4B29-B20A-1335EAC3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20062-1BBE-4725-BC6F-ECAA315F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36E25-87CD-4086-8462-BB322EB2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9DA2D-3CFC-4D02-B632-56A4E9C4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95500-ABC4-418E-91F6-137FE558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9D5F6-B686-4249-BBAE-3B416E19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BB59A-AF92-468C-9D60-286ABE8E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C59BA-4B6B-49E4-B02C-E9899992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7D89F-D522-45B6-9661-5321C770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4554D-9824-404D-9D52-D874E9CF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76D-3E7B-449D-A4EB-9CF52BC3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5F53E-5CDB-443A-BA6F-D1FBD147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84A74-66EF-43A9-ADBA-AFD51129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7CDBF-5A12-4232-8F30-CB55C39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E3906-BFEA-4D77-9F33-221C44C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A94F4-5B37-4D73-97A0-8E50D39D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BA5B5-E54E-496E-8A4A-A407F283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CDC6D-C711-47DF-AC4F-E3C85464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D5F3E-FB34-4758-8E79-6E7AEAEB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7376A-74A0-4900-A7DA-85720A7B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1B1A6-5A52-4D66-922C-9531D3F6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EDD8-4AB3-4066-A954-95FEDC8CFA9B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DDBA-B9FA-433C-B3D4-A94ED70CAA8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088F-6302-4A9C-9C97-0AA1A739424B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B2A6-12D8-47F7-9FD1-D180E79C1B5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E529-BF24-4871-AE1D-B3D6F97A92CF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D566-F279-40CF-819E-2229E32F0D7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2773-398E-4227-B00F-5AF593961BA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0BA4-0626-45B0-B292-16548449F67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BF0D-6D88-434F-BF3F-E9DF0C935EA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CEFF-08B4-4AAA-BDDF-D1C1CB1B678D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5mJbP23Buo&amp;list=PLwL0Myd7Dk1HK8gH2XIafNgQJD1dMX2aW&amp;index=4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qSrmeiWsuc&amp;list=PLwL0Myd7Dk1HK8gH2XIafNgQJD1dMX2aW&amp;index=2" TargetMode="External"/><Relationship Id="rId2" Type="http://schemas.openxmlformats.org/officeDocument/2006/relationships/hyperlink" Target="https://www.youtube.com/watch?v=0Elo-zX1k8M&amp;list=PLwL0Myd7Dk1HK8gH2XIafNgQJD1dMX2aW&amp;index=3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0d0d"/>
                </a:solidFill>
                <a:latin typeface="Tw Cen MT Condensed"/>
              </a:rPr>
              <a:t>Protein Synthesis</a:t>
            </a:r>
            <a:endParaRPr b="0" lang="en-US" sz="5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BL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Protein Structur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up of amino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ade4"/>
                </a:solidFill>
                <a:latin typeface="Calibri"/>
              </a:rPr>
              <a:t>Polypepti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string of amino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 amino acids are arranged in different orders to make a variety of prote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mbled on a </a:t>
            </a:r>
            <a:r>
              <a:rPr b="0" lang="en-US" sz="2400" spc="-1" strike="noStrike">
                <a:solidFill>
                  <a:srgbClr val="1cade4"/>
                </a:solidFill>
                <a:latin typeface="Calibri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Content Placeholder 4" descr=""/>
          <p:cNvPicPr/>
          <p:nvPr/>
        </p:nvPicPr>
        <p:blipFill>
          <a:blip r:embed="rId1"/>
          <a:stretch/>
        </p:blipFill>
        <p:spPr>
          <a:xfrm>
            <a:off x="4492800" y="2819520"/>
            <a:ext cx="431640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762120" y="728640"/>
            <a:ext cx="76960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ranscription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767880" y="190512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A unwinds, RNA polymerase attaches and adds RNA nucleotides to form base pairs with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-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-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ade4"/>
                </a:solidFill>
                <a:latin typeface="Calibri"/>
              </a:rPr>
              <a:t>mRNA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NA that results from the process of tra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Content Placeholder 3" descr=""/>
          <p:cNvPicPr/>
          <p:nvPr/>
        </p:nvPicPr>
        <p:blipFill>
          <a:blip r:embed="rId1"/>
          <a:srcRect l="0" t="0" r="0" b="10157"/>
          <a:stretch/>
        </p:blipFill>
        <p:spPr>
          <a:xfrm>
            <a:off x="4800600" y="3016080"/>
            <a:ext cx="4113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RANSCRIP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685800" y="215892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NA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C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C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G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G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C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695160" y="39765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5b74"/>
                </a:solidFill>
                <a:latin typeface="Calibri"/>
                <a:ea typeface="Calibri"/>
              </a:rPr>
              <a:t>UG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1585800" y="3981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ade4"/>
                </a:solidFill>
                <a:latin typeface="Calibri"/>
                <a:ea typeface="Calibri"/>
              </a:rPr>
              <a:t>U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2433600" y="3962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ced7"/>
                </a:solidFill>
                <a:latin typeface="Calibri"/>
                <a:ea typeface="Calibri"/>
              </a:rPr>
              <a:t>GG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3352680" y="3962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  <a:ea typeface="Calibri"/>
              </a:rPr>
              <a:t>ACU</a:t>
            </a:r>
            <a:r>
              <a:rPr b="0" lang="is-IS" sz="32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Rectangle 1"/>
          <p:cNvSpPr/>
          <p:nvPr/>
        </p:nvSpPr>
        <p:spPr>
          <a:xfrm>
            <a:off x="734760" y="4711680"/>
            <a:ext cx="13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-mR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Major players in transcrip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8240" y="2111040"/>
            <a:ext cx="7290000" cy="40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ade4"/>
                </a:solidFill>
                <a:latin typeface="Calibri"/>
              </a:rPr>
              <a:t>mR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ype of RNA that encodes information for the synthesis of proteins and carries it to a ribosome from the nucle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6" descr=""/>
          <p:cNvPicPr/>
          <p:nvPr/>
        </p:nvPicPr>
        <p:blipFill>
          <a:blip r:embed="rId1"/>
          <a:stretch/>
        </p:blipFill>
        <p:spPr>
          <a:xfrm>
            <a:off x="1962000" y="3711600"/>
            <a:ext cx="49024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Major players in transcrip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68240" y="2084040"/>
            <a:ext cx="7290000" cy="40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ade4"/>
                </a:solidFill>
                <a:latin typeface="Calibri"/>
              </a:rPr>
              <a:t>RNA polymeras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complex of enzymes with 2 function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nwind DNA sequenc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duce primary transcript by stringing together the chain of RNA nucleotid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24031" r="0" b="29457"/>
          <a:stretch/>
        </p:blipFill>
        <p:spPr>
          <a:xfrm>
            <a:off x="1136520" y="4267080"/>
            <a:ext cx="6553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ranscription is done…what now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768240" y="2057040"/>
            <a:ext cx="7290000" cy="40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we have mature mRNA transcribed from the cell’s DNA.  It is leaving the nucleus through a nuclear pore.  Once in the cytoplasm, it finds a ribosome so that translation can begi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 know how mRNA is made, but how do we “read” the code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1371600" y="441972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335b74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ransla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stage of protein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RNA is read via the organelle, ribo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NA brings amino acids to the ribo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Content Placeholder 8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3974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9520" y="6854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RN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1"/>
          <a:srcRect l="42622" t="0" r="0" b="0"/>
          <a:stretch/>
        </p:blipFill>
        <p:spPr>
          <a:xfrm>
            <a:off x="1523880" y="1981080"/>
            <a:ext cx="2092320" cy="41911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91120" y="213372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 R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ound to one amino acid on one en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ade4"/>
                </a:solidFill>
                <a:latin typeface="Calibri"/>
              </a:rPr>
              <a:t>Anticod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n the other end complements mRNA cod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Line 5"/>
          <p:cNvSpPr/>
          <p:nvPr/>
        </p:nvSpPr>
        <p:spPr>
          <a:xfrm flipH="1">
            <a:off x="3200040" y="4191120"/>
            <a:ext cx="1066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6"/>
          <p:cNvSpPr/>
          <p:nvPr/>
        </p:nvSpPr>
        <p:spPr>
          <a:xfrm flipH="1" flipV="1">
            <a:off x="3047760" y="23623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RNA Func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68240" y="1980720"/>
            <a:ext cx="7290000" cy="402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o acids must be in the correct order for the protein to function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NA lines up amino acids using mRNA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081160" y="3276720"/>
            <a:ext cx="46641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Questions to be answered today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we get from the bases found in DNA to amino acid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we get from a bunch of amino acids to protei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odon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767880" y="1980720"/>
            <a:ext cx="3565800" cy="402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3 DNA bases pairs with 3 mRNA b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group of 3 mRNA bases encodes a single amino a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ade4"/>
                </a:solidFill>
                <a:latin typeface="Calibri"/>
              </a:rPr>
              <a:t>Cod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coding triplet of mRNA b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Content Placeholder 2" descr=""/>
          <p:cNvPicPr/>
          <p:nvPr/>
        </p:nvPicPr>
        <p:blipFill>
          <a:blip r:embed="rId1"/>
          <a:stretch/>
        </p:blipFill>
        <p:spPr>
          <a:xfrm>
            <a:off x="5105520" y="2084400"/>
            <a:ext cx="3332160" cy="43243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2"/>
          <a:stretch/>
        </p:blipFill>
        <p:spPr>
          <a:xfrm>
            <a:off x="1447920" y="4876920"/>
            <a:ext cx="18288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he Genetic Co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2286000" y="2084400"/>
            <a:ext cx="49417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Reading the Genetic Co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4917960" y="2476440"/>
            <a:ext cx="3997440" cy="32544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6"/>
          <p:cNvSpPr/>
          <p:nvPr/>
        </p:nvSpPr>
        <p:spPr>
          <a:xfrm>
            <a:off x="685800" y="190512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NA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C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C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G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695160" y="4129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5b74"/>
                </a:solidFill>
                <a:latin typeface="Calibri"/>
                <a:ea typeface="Calibri"/>
              </a:rPr>
              <a:t>UG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1585800" y="413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ade4"/>
                </a:solidFill>
                <a:latin typeface="Calibri"/>
                <a:ea typeface="Calibri"/>
              </a:rPr>
              <a:t>U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2433600" y="41450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ced7"/>
                </a:solidFill>
                <a:latin typeface="Calibri"/>
                <a:ea typeface="Calibri"/>
              </a:rPr>
              <a:t>GG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3352680" y="4114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  <a:ea typeface="Calibri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675720" y="32781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RNA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66720" y="497844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mino Acids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Y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w Cen MT Condensed"/>
              </a:rPr>
              <a:t>Transcription vs. Translation Review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3565800" cy="8222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ade4"/>
                </a:solidFill>
                <a:latin typeface="Calibri"/>
              </a:rPr>
              <a:t>Tran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67880" y="2692440"/>
            <a:ext cx="3565800" cy="334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cess by which genetic information encoded in DNA is copied onto messenger RN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ccurs in the nucleu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NA 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mRN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92800" y="1905120"/>
            <a:ext cx="3565440" cy="8222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cade4"/>
                </a:solidFill>
                <a:latin typeface="Calibri"/>
              </a:rPr>
              <a:t>Trans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492800" y="2692440"/>
            <a:ext cx="3565440" cy="334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cess by which information encoded in mRNA is used to assemble a protein at a ribosom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ccurs on a Ribosom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mRNA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protei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Line 5"/>
          <p:cNvSpPr/>
          <p:nvPr/>
        </p:nvSpPr>
        <p:spPr>
          <a:xfrm>
            <a:off x="5638680" y="5791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Line 7"/>
          <p:cNvSpPr/>
          <p:nvPr/>
        </p:nvSpPr>
        <p:spPr>
          <a:xfrm>
            <a:off x="17524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1"/>
          <a:stretch/>
        </p:blipFill>
        <p:spPr>
          <a:xfrm>
            <a:off x="768240" y="2666880"/>
            <a:ext cx="7632720" cy="2629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entral Dogma!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Video recap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cription and Translation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https://www.youtube.com/watch?v=h5mJbP23Buo&amp;list=PLwL0Myd7Dk1HK8gH2XIafNgQJD1dMX2aW&amp;index=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itle 1"/>
          <p:cNvSpPr/>
          <p:nvPr/>
        </p:nvSpPr>
        <p:spPr>
          <a:xfrm>
            <a:off x="762120" y="1447920"/>
            <a:ext cx="728964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0d0d"/>
                </a:solidFill>
                <a:latin typeface="Tw Cen MT Condensed"/>
              </a:rPr>
              <a:t>Kahoot!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0d0d"/>
                </a:solidFill>
                <a:latin typeface="Tw Cen MT Condensed"/>
              </a:rPr>
              <a:t>Type into the browser: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0d0d"/>
                </a:solidFill>
                <a:latin typeface="Tw Cen MT Condensed"/>
              </a:rPr>
              <a:t>kahoot.it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NA Structure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435" name="Content Placeholder 3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4923000" cy="4479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main component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sph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gar (deoxyribo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trogenous base              (A, T, C, 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Replica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68240" y="2107800"/>
            <a:ext cx="7290000" cy="40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DNA double helix unwin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DNA now single-strand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New DNA strand forms using complementary base pairing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246240" indent="-1267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(A-T, C-G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46240" indent="-1267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Used to prepare DNA for cell division (mitosi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Calibri"/>
              </a:rPr>
              <a:t>Whole genome copied/replica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83880" indent="-83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2666880" y="152280"/>
            <a:ext cx="7238880" cy="4114800"/>
            <a:chOff x="2666880" y="152280"/>
            <a:chExt cx="7238880" cy="4114800"/>
          </a:xfrm>
        </p:grpSpPr>
        <p:sp>
          <p:nvSpPr>
            <p:cNvPr id="440" name="AutoShape 4"/>
            <p:cNvSpPr/>
            <p:nvPr/>
          </p:nvSpPr>
          <p:spPr>
            <a:xfrm>
              <a:off x="2666880" y="152280"/>
              <a:ext cx="723888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_s57351"/>
            <p:cNvSpPr/>
            <p:nvPr/>
          </p:nvSpPr>
          <p:spPr>
            <a:xfrm>
              <a:off x="4114800" y="838080"/>
              <a:ext cx="4343400" cy="862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1cad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w Cen MT"/>
                </a:rPr>
                <a:t>DNA</a:t>
              </a:r>
              <a:endParaRPr b="0" lang="en-US" sz="2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8"/>
            <p:cNvSpPr/>
            <p:nvPr/>
          </p:nvSpPr>
          <p:spPr>
            <a:xfrm>
              <a:off x="4857480" y="814320"/>
              <a:ext cx="1079640" cy="1243080"/>
            </a:xfrm>
            <a:custGeom>
              <a:avLst/>
              <a:gdLst/>
              <a:ahLst/>
              <a:rect l="l" t="t" r="r" b="b"/>
              <a:pathLst>
                <a:path w="680" h="784">
                  <a:moveTo>
                    <a:pt x="680" y="480"/>
                  </a:moveTo>
                  <a:cubicBezTo>
                    <a:pt x="652" y="580"/>
                    <a:pt x="624" y="680"/>
                    <a:pt x="536" y="720"/>
                  </a:cubicBezTo>
                  <a:cubicBezTo>
                    <a:pt x="448" y="760"/>
                    <a:pt x="240" y="784"/>
                    <a:pt x="152" y="720"/>
                  </a:cubicBezTo>
                  <a:cubicBezTo>
                    <a:pt x="64" y="656"/>
                    <a:pt x="0" y="448"/>
                    <a:pt x="8" y="336"/>
                  </a:cubicBezTo>
                  <a:cubicBezTo>
                    <a:pt x="16" y="224"/>
                    <a:pt x="128" y="96"/>
                    <a:pt x="200" y="48"/>
                  </a:cubicBezTo>
                  <a:cubicBezTo>
                    <a:pt x="272" y="0"/>
                    <a:pt x="368" y="32"/>
                    <a:pt x="440" y="48"/>
                  </a:cubicBezTo>
                  <a:cubicBezTo>
                    <a:pt x="512" y="64"/>
                    <a:pt x="572" y="104"/>
                    <a:pt x="632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NA Replication: Semi-conservativ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444" name="Content Placeholder 3" descr=""/>
          <p:cNvPicPr/>
          <p:nvPr/>
        </p:nvPicPr>
        <p:blipFill>
          <a:blip r:embed="rId1"/>
          <a:stretch/>
        </p:blipFill>
        <p:spPr>
          <a:xfrm>
            <a:off x="1984320" y="2286000"/>
            <a:ext cx="48578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he Central dogm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grpSp>
        <p:nvGrpSpPr>
          <p:cNvPr id="446" name="Group 17"/>
          <p:cNvGrpSpPr/>
          <p:nvPr/>
        </p:nvGrpSpPr>
        <p:grpSpPr>
          <a:xfrm>
            <a:off x="1600200" y="2057400"/>
            <a:ext cx="5865840" cy="4266360"/>
            <a:chOff x="1600200" y="2057400"/>
            <a:chExt cx="5865840" cy="4266360"/>
          </a:xfrm>
        </p:grpSpPr>
        <p:grpSp>
          <p:nvGrpSpPr>
            <p:cNvPr id="447" name="Group 6"/>
            <p:cNvGrpSpPr/>
            <p:nvPr/>
          </p:nvGrpSpPr>
          <p:grpSpPr>
            <a:xfrm>
              <a:off x="1600200" y="2057400"/>
              <a:ext cx="5865840" cy="4266360"/>
              <a:chOff x="1600200" y="2057400"/>
              <a:chExt cx="5865840" cy="4266360"/>
            </a:xfrm>
          </p:grpSpPr>
          <p:sp>
            <p:nvSpPr>
              <p:cNvPr id="448" name="AutoShape 5"/>
              <p:cNvSpPr/>
              <p:nvPr/>
            </p:nvSpPr>
            <p:spPr>
              <a:xfrm>
                <a:off x="1600200" y="2057400"/>
                <a:ext cx="5865840" cy="426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449" name="_s47119"/>
              <p:cNvCxnSpPr/>
              <p:nvPr/>
            </p:nvCxnSpPr>
            <p:spPr>
              <a:xfrm flipV="1">
                <a:off x="4526640" y="4726440"/>
                <a:ext cx="6840" cy="533880"/>
              </a:xfrm>
              <a:prstGeom prst="straightConnector1">
                <a:avLst/>
              </a:prstGeom>
              <a:ln w="15840">
                <a:solidFill>
                  <a:srgbClr val="2683c6"/>
                </a:solidFill>
                <a:miter/>
              </a:ln>
            </p:spPr>
          </p:cxnSp>
          <p:cxnSp>
            <p:nvCxnSpPr>
              <p:cNvPr id="450" name="_s47116"/>
              <p:cNvCxnSpPr/>
              <p:nvPr/>
            </p:nvCxnSpPr>
            <p:spPr>
              <a:xfrm flipV="1">
                <a:off x="4526640" y="3126600"/>
                <a:ext cx="6840" cy="533880"/>
              </a:xfrm>
              <a:prstGeom prst="straightConnector1">
                <a:avLst/>
              </a:prstGeom>
              <a:ln w="15840">
                <a:solidFill>
                  <a:srgbClr val="2683c6"/>
                </a:solidFill>
                <a:miter/>
              </a:ln>
            </p:spPr>
          </p:cxnSp>
          <p:sp>
            <p:nvSpPr>
              <p:cNvPr id="451" name="_s47111"/>
              <p:cNvSpPr/>
              <p:nvPr/>
            </p:nvSpPr>
            <p:spPr>
              <a:xfrm>
                <a:off x="1600200" y="2057400"/>
                <a:ext cx="5865840" cy="1066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5840">
                <a:solidFill>
                  <a:srgbClr val="2683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DNA</a:t>
                </a:r>
                <a:endParaRPr b="0" lang="en-US" sz="5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2" name="_s47113"/>
              <p:cNvSpPr/>
              <p:nvPr/>
            </p:nvSpPr>
            <p:spPr>
              <a:xfrm>
                <a:off x="1600200" y="3657240"/>
                <a:ext cx="5865840" cy="1066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5840">
                <a:solidFill>
                  <a:srgbClr val="2683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RNA</a:t>
                </a:r>
                <a:endParaRPr b="0" lang="en-US" sz="5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3" name="_s47118"/>
              <p:cNvSpPr/>
              <p:nvPr/>
            </p:nvSpPr>
            <p:spPr>
              <a:xfrm>
                <a:off x="1600200" y="5257080"/>
                <a:ext cx="5865840" cy="1066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5840">
                <a:solidFill>
                  <a:srgbClr val="2683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rotein</a:t>
                </a:r>
                <a:endParaRPr b="0" lang="en-US" sz="5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4" name="Line 16"/>
            <p:cNvSpPr/>
            <p:nvPr/>
          </p:nvSpPr>
          <p:spPr>
            <a:xfrm>
              <a:off x="4537080" y="3165480"/>
              <a:ext cx="0" cy="474480"/>
            </a:xfrm>
            <a:prstGeom prst="line">
              <a:avLst/>
            </a:prstGeom>
            <a:ln w="15840">
              <a:solidFill>
                <a:srgbClr val="2683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Line 17"/>
            <p:cNvSpPr/>
            <p:nvPr/>
          </p:nvSpPr>
          <p:spPr>
            <a:xfrm>
              <a:off x="4537080" y="4745160"/>
              <a:ext cx="0" cy="554040"/>
            </a:xfrm>
            <a:prstGeom prst="line">
              <a:avLst/>
            </a:prstGeom>
            <a:ln w="15840">
              <a:solidFill>
                <a:srgbClr val="2683c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6" name="Text Box 18"/>
            <p:cNvSpPr/>
            <p:nvPr/>
          </p:nvSpPr>
          <p:spPr>
            <a:xfrm>
              <a:off x="4906800" y="3136680"/>
              <a:ext cx="2531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Transcriptio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Text Box 19"/>
            <p:cNvSpPr/>
            <p:nvPr/>
          </p:nvSpPr>
          <p:spPr>
            <a:xfrm>
              <a:off x="4968720" y="4795920"/>
              <a:ext cx="2284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Translatio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NA Vs. RN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3565800" cy="8222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ade4"/>
                </a:solidFill>
                <a:latin typeface="Calibri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67880" y="2743200"/>
            <a:ext cx="3565800" cy="334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oxyribose sug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s: C,G A,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92800" y="1905120"/>
            <a:ext cx="3565440" cy="822240"/>
          </a:xfrm>
          <a:prstGeom prst="rect">
            <a:avLst/>
          </a:prstGeom>
          <a:noFill/>
          <a:ln w="0">
            <a:noFill/>
          </a:ln>
        </p:spPr>
        <p:txBody>
          <a:bodyPr lIns="137160" rIns="13716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ade4"/>
                </a:solidFill>
                <a:latin typeface="Calibri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492800" y="2743200"/>
            <a:ext cx="3565440" cy="334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s: C,G,A,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762120" y="4952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o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a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 sugar, phosphate, and ba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NA Vs. RNA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465" name="Content Placeholder 7" descr=""/>
          <p:cNvPicPr/>
          <p:nvPr/>
        </p:nvPicPr>
        <p:blipFill>
          <a:blip r:embed="rId1"/>
          <a:stretch/>
        </p:blipFill>
        <p:spPr>
          <a:xfrm>
            <a:off x="1849320" y="2021040"/>
            <a:ext cx="54658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Video Recap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lang="en-US" sz="20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https://www.youtube.com/watch?v=5qSrmeiWsuc&amp;list=PLwL0Myd7Dk1HK8gH2XIafNgQJD1dMX2aW&amp;index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NA and RNA Structure: </a:t>
            </a:r>
            <a:r>
              <a:rPr b="0" lang="en-US" sz="2000" spc="-1" strike="noStrike" u="sng">
                <a:solidFill>
                  <a:srgbClr val="6b9f25"/>
                </a:solidFill>
                <a:uFillTx/>
                <a:latin typeface="Calibri"/>
                <a:hlinkClick r:id="rId2"/>
              </a:rPr>
              <a:t>https://www.youtube.com/watch?v=0Elo-zX1k8M&amp;list=PLwL0Myd7Dk1HK8gH2XIafNgQJD1dMX2aW&amp;index=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9T02:52:23Z</dcterms:created>
  <dc:creator>Microsoft Office User</dc:creator>
  <dc:description/>
  <dc:language>en-US</dc:language>
  <cp:lastModifiedBy>James M Dixon</cp:lastModifiedBy>
  <dcterms:modified xsi:type="dcterms:W3CDTF">2016-07-14T17:38:47Z</dcterms:modified>
  <cp:revision>3</cp:revision>
  <dc:subject/>
  <dc:title>Protein Synthesis</dc:title>
</cp:coreProperties>
</file>